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37216"/>
        <c:axId val="99521823"/>
      </c:barChart>
      <c:catAx>
        <c:axId val="70437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21823"/>
        <c:crosses val="autoZero"/>
        <c:auto val="1"/>
        <c:lblAlgn val="ctr"/>
        <c:lblOffset val="100"/>
        <c:noMultiLvlLbl val="0"/>
      </c:catAx>
      <c:valAx>
        <c:axId val="99521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37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DB1-1DD5-47F5-B555-CE977BFA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DA5-F876-41BD-A9C9-028D2F11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813-4019-4890-B3B5-1D750838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B72-8BF1-4B75-A5B4-154B92D2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28A-34E8-4966-A9F3-82808ABB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515-548A-4B8A-9DC6-565DC793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53C-5832-4DFA-8DB7-C26BA873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A87-030D-42B4-9B73-81F1BFDD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0A5-A0CE-4291-8DE8-5BDEF027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B1F-E97C-44EE-8321-626B3913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6AD-20EC-4589-A5F5-B66F0074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B89-E079-4A4C-96E1-D19DA609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721B4-E2C3-4D89-A107-DA34D6E5D5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