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97571"/>
        <c:axId val="51868978"/>
      </c:barChart>
      <c:catAx>
        <c:axId val="82697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8978"/>
        <c:crosses val="autoZero"/>
        <c:auto val="1"/>
        <c:lblAlgn val="ctr"/>
        <c:lblOffset val="100"/>
        <c:noMultiLvlLbl val="0"/>
      </c:catAx>
      <c:valAx>
        <c:axId val="51868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97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28C-103A-4BED-91AC-B1B7430D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884-9A35-4940-AECA-5B1CC83F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CE7-7535-4B00-A044-C4ACF92C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1FB-84A7-40C6-994A-F5C0FEE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D3E-5C38-4D84-8C86-97D7F47D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086-A3C9-440D-8DFB-8DC7A88B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A6C-E3CC-4463-B812-637B759F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F63-53CC-4C00-B289-5EF9EB90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D3E-2F74-4529-88B0-92CE7F02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DEB-974E-4E62-9EF0-25206B10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831-4693-4BF1-8F9B-D43DFB6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A98-281C-42D7-8F8A-3EAD2F29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B4E0-5F44-42FD-9C46-AAFF009EF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