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474330"/>
        <c:axId val="98299240"/>
      </c:barChart>
      <c:catAx>
        <c:axId val="294743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299240"/>
        <c:crosses val="autoZero"/>
        <c:auto val="1"/>
        <c:lblAlgn val="ctr"/>
        <c:lblOffset val="100"/>
        <c:noMultiLvlLbl val="0"/>
      </c:catAx>
      <c:valAx>
        <c:axId val="982992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4743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0D93-4023-4F39-96B5-D87A5E24A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1C2A-272F-4005-99E9-FA5984DA7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DDB3-4848-450F-A373-85D9BC15A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2F1E-A080-4E4A-9982-078C8CB70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71C9-78FB-4A19-8CED-2C54C312E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E54E-2110-4CC5-AC6D-2CA02211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6196-F1BE-488D-BBC8-519878EF0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2EA2-C3DE-4D12-9E87-4E877BA8A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0112-867A-4AF6-95C8-F3FC817C6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2367-E31F-42B6-A42E-27FE15C1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31B0-80E4-4D48-83E2-B58966D6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5D94-6D66-4B4C-9DC9-A4CC5D67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118F4A-9A0A-4CEB-872E-2D56C5F5B9B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