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875378"/>
        <c:axId val="29319029"/>
      </c:barChart>
      <c:catAx>
        <c:axId val="938753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19029"/>
        <c:crosses val="autoZero"/>
        <c:auto val="1"/>
        <c:lblAlgn val="ctr"/>
        <c:lblOffset val="100"/>
        <c:noMultiLvlLbl val="0"/>
      </c:catAx>
      <c:valAx>
        <c:axId val="293190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753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ACD9-BDE5-4E8F-94B9-0B4391D2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D9F-45FF-4721-AA44-EF6D288C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000E-0865-4EEF-B8B1-5A17DCF6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B596-8A3F-4F0E-9D19-FA5F5213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1E34-F54C-464D-AEE6-A7785298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E9C1-BE59-4149-90C2-4F4E74A7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DF23-D600-44A4-90D6-F27E7F48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A272-181B-4965-9BF2-10BCC6DC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19CF-98B7-4D20-BC81-9C2DB876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A8C5-2A38-4FDB-80F0-98469C07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3169-21EC-4CE4-9E84-B90F3824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9CC3-FA6F-4D82-8215-901B3BD3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7DB2B-658B-4CBC-8279-342FFFD3E2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