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71038"/>
        <c:axId val="83047262"/>
      </c:barChart>
      <c:catAx>
        <c:axId val="20371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47262"/>
        <c:crosses val="autoZero"/>
        <c:auto val="1"/>
        <c:lblAlgn val="ctr"/>
        <c:lblOffset val="100"/>
        <c:noMultiLvlLbl val="0"/>
      </c:catAx>
      <c:valAx>
        <c:axId val="83047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71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C1A-E8D8-47C3-8FC9-314AC844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508-058E-4E86-80D4-9C3A60F2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E03-AB9D-4FDD-BDC6-EB92B3E4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C81-CBA9-4FA2-AEE0-84C7880D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C5F-BB3F-43D7-A555-2327D5C9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DD2-F48F-4FA3-9606-35498F9D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126-B471-4CE7-90F2-D49442C7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A99-B79A-4776-8249-9D24C241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566-8DA9-456D-9587-11FA458C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058-BB9E-4F6E-9EF1-F76C0954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645-9D79-4CF2-9075-C64FDED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81C-6261-4677-AB5C-2A0BC10D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220C4-0D46-4D4A-8856-9A26617708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