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45990"/>
        <c:axId val="63563939"/>
      </c:barChart>
      <c:catAx>
        <c:axId val="12345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63939"/>
        <c:crosses val="autoZero"/>
        <c:auto val="1"/>
        <c:lblAlgn val="ctr"/>
        <c:lblOffset val="100"/>
        <c:noMultiLvlLbl val="0"/>
      </c:catAx>
      <c:valAx>
        <c:axId val="63563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45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8BD-E6DB-4550-90AC-CD25EB6E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D15-AFE7-401A-B4F0-A7A98F35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7B8-7833-4CD3-BB59-9B5AB459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B1C-3E0A-4A5C-B416-8744AE67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5F1-2DFA-4FE5-8C88-F9231D41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715-7509-442B-B324-5EDC32DB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DF0-51F8-438B-BBB3-D9CDDFC0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429-F776-4C31-812A-484DA06A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812-CEF5-4460-AB3B-DB786A39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C4A-FC6E-494D-8153-28A5B4AF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4BB-C6AC-4722-800D-E46C723D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D42-E417-4C18-AD17-2D5FB57D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0BEE8-86ED-4930-BC30-8D4A8F55DE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