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17550"/>
        <c:axId val="55996675"/>
      </c:barChart>
      <c:catAx>
        <c:axId val="55817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96675"/>
        <c:crosses val="autoZero"/>
        <c:auto val="1"/>
        <c:lblAlgn val="ctr"/>
        <c:lblOffset val="100"/>
        <c:noMultiLvlLbl val="0"/>
      </c:catAx>
      <c:valAx>
        <c:axId val="55996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17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291-2B82-45BE-A442-DE355B77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208-7792-4B5B-A503-01621349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3B6-3CEC-4E69-8158-D28352CF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AD1-38D3-47D0-9DE7-A6E6EBBB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06B-9CA5-453D-97C5-66CFAFD8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688-1220-45E0-BF6C-0D1779B6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18A-DB34-436E-B57B-10CB7F5E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45D-3A60-4781-B223-525A5606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0D5-BB94-4F8F-8702-95DF3F6D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434-7E8A-4B90-990A-4EB1E937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D0A-8A93-4147-8D54-9EAD7B12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B22-A51C-43BF-9E77-43C29F08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33715-5F62-4051-BE13-D96DD62681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