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160282"/>
        <c:axId val="92175222"/>
      </c:barChart>
      <c:catAx>
        <c:axId val="281602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175222"/>
        <c:crosses val="autoZero"/>
        <c:auto val="1"/>
        <c:lblAlgn val="ctr"/>
        <c:lblOffset val="100"/>
        <c:noMultiLvlLbl val="0"/>
      </c:catAx>
      <c:valAx>
        <c:axId val="921752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602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3E98-86A0-4DD7-8328-15431C32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531A-D3B6-4422-A197-A22BDEEC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3CAA-C32D-458F-B0D6-BD05B6ADC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8646-7162-497B-A3B1-5BAB4558A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79B6-9D8E-42C8-9206-3D3E391F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76EA-592C-4E97-A8FD-678A11F5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3BF7-79DE-4EE1-8C14-D3C18901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7446-A19E-4DA9-A311-8A406336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69D1-F201-4753-A6B6-D8E18BD6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5C0A-630F-415E-86AD-10B40AEC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6A65-0B8D-4C2C-B6BA-794FC16C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964B-6E34-4429-9BEE-E9CD6C5E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53E0AA-0C30-44F3-9428-4D6B7DC413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