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71501"/>
        <c:axId val="62882580"/>
      </c:barChart>
      <c:catAx>
        <c:axId val="57571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82580"/>
        <c:crosses val="autoZero"/>
        <c:auto val="1"/>
        <c:lblAlgn val="ctr"/>
        <c:lblOffset val="100"/>
        <c:noMultiLvlLbl val="0"/>
      </c:catAx>
      <c:valAx>
        <c:axId val="62882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71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45A-2883-467D-BA76-09310B7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A62-E5F6-44B7-93E4-C11A00D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DA2-27E7-4829-99C1-AA95EF04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365-DB6B-4573-8D21-CE002436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36C-50CA-4F09-AF6C-AC73D66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BEA-4875-4848-A788-2908C118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36D-5788-4A38-BA4F-D154FB9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9C2-BF04-4E3B-B6AA-7B98DD0A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994-C09F-449D-B1E0-3A8E35B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F41-B40A-43EA-AFDB-B43F37B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9D7-4A66-4633-B1B3-ECA3409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51A-5F24-4D8D-AA3F-C4E9189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C7790-54C2-4CE7-AD66-79C954E5E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