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68262"/>
        <c:axId val="98297448"/>
      </c:barChart>
      <c:catAx>
        <c:axId val="72968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97448"/>
        <c:crosses val="autoZero"/>
        <c:auto val="1"/>
        <c:lblAlgn val="ctr"/>
        <c:lblOffset val="100"/>
        <c:noMultiLvlLbl val="0"/>
      </c:catAx>
      <c:valAx>
        <c:axId val="982974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68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1B6F-1CC6-4144-8B8B-478C823E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5D9-9054-4C58-852A-7222C69B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18F-A9FA-4542-A4DC-574737FB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8936-8055-4EBD-A644-9E32CC1D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5ED2-1C93-4870-8853-E9DFE29B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CC1-1CB3-4A18-BFF0-6570F83B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CDC2-8C13-4960-B9D3-58B03AA4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96D-CD10-49A3-B2BD-ECCF32EF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AFA5-EE0B-40F4-AE3F-37E8C1FB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8570-B0F8-463A-9625-44DB68C9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1934-6C09-4AB3-B226-D22EA3C1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A2F-23C0-4BE2-8E73-656223E6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7267D-05E1-4D98-844C-710E56FEBA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