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26128"/>
        <c:axId val="28264348"/>
      </c:barChart>
      <c:catAx>
        <c:axId val="89226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64348"/>
        <c:crosses val="autoZero"/>
        <c:auto val="1"/>
        <c:lblAlgn val="ctr"/>
        <c:lblOffset val="100"/>
        <c:noMultiLvlLbl val="0"/>
      </c:catAx>
      <c:valAx>
        <c:axId val="28264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26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F47-5AD1-4A4D-B46A-216CA311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44B-F76D-479F-9A2C-7BC07CAB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699-24BD-433B-85D6-B58832DD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1E6-090B-4624-8226-AF06D261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103-D8FE-47CB-832C-D3BA7AF3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A96-6418-49E7-8AED-5AA85FC5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CCA-24F4-4ECA-9914-367B71D0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716-5D00-4CD4-941B-09394624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D80-3E18-426C-AC8F-FE91FA64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0D85-8572-4C4D-90BC-237AC9AF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711-3240-4B8D-85A8-9467EE4C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3D26-207B-45D9-AD2D-CDF1F91D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95512-837A-4789-BAC2-7EC1A3CE72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