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98530"/>
        <c:axId val="20062193"/>
      </c:barChart>
      <c:catAx>
        <c:axId val="76798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2193"/>
        <c:crosses val="autoZero"/>
        <c:auto val="1"/>
        <c:lblAlgn val="ctr"/>
        <c:lblOffset val="100"/>
        <c:noMultiLvlLbl val="0"/>
      </c:catAx>
      <c:valAx>
        <c:axId val="20062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8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76F-3E23-4413-A7F2-71388A2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9BA-4C39-448A-86D7-28A1773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E85-041D-4595-8290-36E7E050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919-95B7-415C-9950-2E0E4C24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02E-9C31-42DD-B4B1-17A8C4E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16A-5E3B-4059-83CC-A31F3D3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12D-7E35-411E-B938-48860D9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655-4EC2-47D0-8513-E67B0276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989-718D-4352-BEB0-EBD99724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2CF-7170-4D7E-A093-1040D37F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367-F32F-4F30-9268-4FF8F46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DBD-33BF-4D07-A10C-C03D934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EE97A-446E-4CD9-BB06-09F6321F7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